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D31-4E38-486C-BA62-6529DB90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9AA-47EF-465C-B009-B5BFC4E1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19C-1A5D-4BCF-BA56-A1F06B04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A76-91A0-4FBC-8810-0F9F39EC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4AF-5F01-43CE-A880-778E7EDD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2664-D556-4950-AFD2-AB5B189C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1D7B-69C9-4580-871F-12564EC4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660F-D19D-47AB-A010-538080C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2413-AFBC-4483-BA29-C9753ECE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E6EF-8942-4B67-868F-90DDF8D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08E6-93A5-45B3-A962-1BF0E5C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29A-12D4-4AA0-B9AD-8A863D3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55D3-855E-4AC0-B613-5F7208FD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44FE-D0F9-49F9-9471-33D626C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A9F-464F-4305-A95A-F563A8C9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2C3-AE18-43E5-8DE9-F7368C35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8A4B-EE93-4F25-B25D-23393EE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BF8-6605-496C-9020-5AA92FA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741-E127-49DB-830F-B8BBEACF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1CC-FB14-4281-B030-F9009F1B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5DB-379D-4505-A867-5A065AC2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37A-8265-4C1A-A4DF-A9A51FB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BC0-E288-4D9F-893B-A96A6071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D0D-34E3-4C62-A2E6-AF20E82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B6EA-34FE-401A-A24A-96EB03B40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55CD-C913-41F8-91BD-F579B3DAA794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青岛理工大学学生</a:t>
            </a:r>
            <a:br>
              <a:rPr sz="6000"/>
            </a:b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赴台</a:t>
            </a:r>
            <a:br>
              <a:rPr sz="6000"/>
            </a:b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交流访问项目说明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五、课程说明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台湾高校各系、所、学位学程所开设课程，除特别规定有先修科目或其它限修条件及教育学程科目外，皆以可供选课为原则，每学期选修学分数不设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选课：访问学生可跨系所跨专业选课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东南科技大学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东南科技大学位于台湾新北市，前身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97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创立的东南工业专科学校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更名东南技术学院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00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更为现名。拥有工程学院、电资学院、管理学院、生活应用学院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学院，共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研究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系，近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75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名学生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4"/>
          <p:cNvGraphicFramePr/>
          <p:nvPr/>
        </p:nvGraphicFramePr>
        <p:xfrm>
          <a:off x="-973080" y="517680"/>
          <a:ext cx="1124424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73080" y="517680"/>
                    <a:ext cx="1124424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收费标准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大陆生收费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)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一学期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新台币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1680" y="1905120"/>
          <a:ext cx="8540640" cy="2255760"/>
        </p:xfrm>
        <a:graphic>
          <a:graphicData uri="http://schemas.openxmlformats.org/drawingml/2006/table">
            <a:tbl>
              <a:tblPr/>
              <a:tblGrid>
                <a:gridCol w="453960"/>
                <a:gridCol w="1079640"/>
                <a:gridCol w="792000"/>
                <a:gridCol w="649440"/>
                <a:gridCol w="2087280"/>
                <a:gridCol w="1295640"/>
                <a:gridCol w="21826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序号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费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保险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检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学行政费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台申请证件费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保险费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宿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寝具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00)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00 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访问学生于注册缴费完成后，得等同本地生享有使用校内各项设施之权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修课者经评量及格，得比照本地生于课程结束后申请核发学分或成绩证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服务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: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本计划提供所有的访问学生：免费机场接机、以及一名大学生志工协助其适应环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访问学生计划是设计给有意来进行短期研修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学期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学年之学生，访问学生申请人须是大学或研究所之在学学生，访问学生须自费，属全职学生并不提供学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47640" y="765000"/>
            <a:ext cx="532944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七、其它说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八、入台证申请材料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寸白底相片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身份证复印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正反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户口本复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入台申请书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台湾提供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在学证明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785808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学校有多所台湾合作院校，只有东南科技大学营建与空间设计系专业与我院专业相近。建筑学院学生可申请赴该校进行短期交流，名额不限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日早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点前，将申请表格发到张红梅老师处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569993254@qq.com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，申请表格请到附件中下载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需要了解课程设置信息，请查询东南科技大学网站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如 有问题，请直接联系国际交流处，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85071737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，王老师。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4" descr="20110317150748"/>
          <p:cNvPicPr/>
          <p:nvPr/>
        </p:nvPicPr>
        <p:blipFill>
          <a:blip r:embed="rId1"/>
          <a:stretch/>
        </p:blipFill>
        <p:spPr>
          <a:xfrm>
            <a:off x="1671480" y="581040"/>
            <a:ext cx="5801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项目背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，徐校长一行对台湾五所大学进行了交流访问，取得了丰硕成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积极推动学者、学生“走出去”的项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师生为主体，学生先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项目优势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没有语言障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高水平教育资源和先进理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费用低廉，环境友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开拓视野，走向国际的台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须有在学学籍之学生身份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其所属学校须应符合下列规定之一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1)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与本校或各学院系所签订学术交流协议之姐妹校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或学院系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2)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如非姐妹校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或学院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该校须为教育部认可之学校，或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经项目签署核准者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一、申请资格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二、修业期限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研修时间：一学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每学年之第一学期：九月中 至一月底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第二学期：二月中 至六月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三、报名申请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秋季班申请截止日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春季班申请截止日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四、申请资料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入学申请应于规定时间内，备齐下列申请文件向本校国际交流处提出申请，转台湾高校审核及认可，签案送交教务处等会办单位同意后，由台湾高校国际事务处核发入学许可函：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申请书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份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二寸照片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张 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最近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个月内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正面、半身、脱帽、白底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户口本、身份证复印件各一份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推荐信两封</a:t>
            </a:r>
            <a:r>
              <a:rPr b="0" lang="zh-TW" sz="27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留学计划书一份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英文或中文书写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)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研究计划书一份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如适用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)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dc5900"/>
                </a:solidFill>
                <a:latin typeface="Arial"/>
              </a:rPr>
              <a:t>大学或研究所成绩单英译本两份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学生证正反复印或在学证明正本一份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需学校盖公章</a:t>
            </a:r>
            <a:r>
              <a:rPr b="0" lang="en-US" sz="27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27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6:11:53Z</dcterms:created>
  <dc:creator>刘春堂</dc:creator>
  <dc:description/>
  <dc:language>en-US</dc:language>
  <cp:lastModifiedBy>微软用户</cp:lastModifiedBy>
  <dcterms:modified xsi:type="dcterms:W3CDTF">2014-04-10T08:24:36Z</dcterms:modified>
  <cp:revision>30</cp:revision>
  <dc:subject/>
  <dc:title>大陆生赴台大学 访问学生企划说明 </dc:title>
</cp:coreProperties>
</file>